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8901-CA50-47AE-B709-068B7D0F6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ve. You make decision on the basis of past events or experiences, try to address issues and problems related to the past deci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ctive. You make decisions on the analysis of current situation and dema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-Active. You predict future on the basis of data and try to address forecast fu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active. This is creative approach and you make new decisions according to new vision. This approach introduces new horiz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AE49-8E32-4EB0-87C9-46B01B472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B9FF-D87A-4225-850C-C3022219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FB34-2FC3-4030-ABF4-D7DAAEA3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DDBD-BF8D-428B-AFEE-20495FD3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AB8F-D02E-4EE3-B546-66845F7F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0F60-5925-4BB8-8985-4E31C6FA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189D-9CD7-458D-AA2D-054C7A71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4EA-8EDC-4AD6-9AF0-3A3032EA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4556-B028-4E0D-87CA-BE9DDC07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286-A468-48DC-923B-0E6E4639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AA6-313C-46F3-B591-EC80E449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459-16CA-444A-8EA1-7F508160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A66-29B4-4BC7-A2A1-CCDDFE25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7109-ABE6-4356-9547-12EA6DB1E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848720" cy="2762280"/>
          </a:xfrm>
          <a:prstGeom prst="rect">
            <a:avLst/>
          </a:prstGeom>
          <a:solidFill>
            <a:srgbClr val="8ce1c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ducational Plan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. Tahir Nad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</a:t>
            </a: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 at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atic study of future is futur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of Futur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Your experiences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" descr=""/>
          <p:cNvPicPr/>
          <p:nvPr/>
        </p:nvPicPr>
        <p:blipFill>
          <a:blip r:embed="rId1"/>
          <a:stretch/>
        </p:blipFill>
        <p:spPr>
          <a:xfrm>
            <a:off x="426960" y="1584360"/>
            <a:ext cx="825984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5d1d"/>
                </a:solidFill>
                <a:latin typeface="Book Antiqua"/>
              </a:rPr>
              <a:t>Approaches to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3624"/>
                </a:solidFill>
                <a:latin typeface="Wingdings"/>
                <a:ea typeface="Wingdings"/>
              </a:rPr>
              <a:t></a:t>
            </a: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Reactive – past ori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3624"/>
                </a:solidFill>
                <a:latin typeface="Wingdings"/>
                <a:ea typeface="Wingdings"/>
              </a:rPr>
              <a:t></a:t>
            </a: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Inactive - present ori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3624"/>
                </a:solidFill>
                <a:latin typeface="Wingdings"/>
                <a:ea typeface="Wingdings"/>
              </a:rPr>
              <a:t></a:t>
            </a: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Pre-active – prediction based </a:t>
            </a: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(predicting future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3624"/>
                </a:solidFill>
                <a:latin typeface="Wingdings"/>
                <a:ea typeface="Wingdings"/>
              </a:rPr>
              <a:t></a:t>
            </a: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Proactive - vision based (creating </a:t>
            </a: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fu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5d1d"/>
                </a:solidFill>
                <a:latin typeface="Book Antiqua"/>
              </a:rPr>
              <a:t>Approaches to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Demand 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of Return Ap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power Ap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ve Ap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appointed as a Director of a Task Force in a District. You have no information about that district and its education. Target of that Task Force is “Improvements in College Education”.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 do you need to know before starting your wor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446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b">
            <a:normAutofit fontScale="9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ment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&amp;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s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446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b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Elements of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Content Placeholder 4"/>
          <p:cNvGrpSpPr/>
          <p:nvPr/>
        </p:nvGrpSpPr>
        <p:grpSpPr>
          <a:xfrm>
            <a:off x="2479680" y="1901880"/>
            <a:ext cx="4186080" cy="4098600"/>
            <a:chOff x="2479680" y="1901880"/>
            <a:chExt cx="4186080" cy="4098600"/>
          </a:xfrm>
        </p:grpSpPr>
        <p:sp>
          <p:nvSpPr>
            <p:cNvPr id="84" name="_s1028"/>
            <p:cNvSpPr/>
            <p:nvPr/>
          </p:nvSpPr>
          <p:spPr>
            <a:xfrm>
              <a:off x="3716280" y="1920600"/>
              <a:ext cx="1711440" cy="1711440"/>
            </a:xfrm>
            <a:custGeom>
              <a:avLst/>
              <a:gdLst>
                <a:gd name="textAreaLeft" fmla="*/ 0 w 1711440"/>
                <a:gd name="textAreaRight" fmla="*/ 1711800 w 171144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29"/>
            <p:cNvSpPr/>
            <p:nvPr/>
          </p:nvSpPr>
          <p:spPr>
            <a:xfrm rot="3060000">
              <a:off x="4565160" y="2330280"/>
              <a:ext cx="1711440" cy="1711440"/>
            </a:xfrm>
            <a:custGeom>
              <a:avLst/>
              <a:gdLst>
                <a:gd name="textAreaLeft" fmla="*/ 0 w 1711440"/>
                <a:gd name="textAreaRight" fmla="*/ 1711800 w 171144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0"/>
            <p:cNvSpPr/>
            <p:nvPr/>
          </p:nvSpPr>
          <p:spPr>
            <a:xfrm rot="6180000">
              <a:off x="4776120" y="3249000"/>
              <a:ext cx="1711440" cy="1711080"/>
            </a:xfrm>
            <a:custGeom>
              <a:avLst/>
              <a:gdLst>
                <a:gd name="textAreaLeft" fmla="*/ 0 w 1711440"/>
                <a:gd name="textAreaRight" fmla="*/ 1711800 w 1711440"/>
                <a:gd name="textAreaTop" fmla="*/ 0 h 1711080"/>
                <a:gd name="textAreaBottom" fmla="*/ 1711440 h 171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1"/>
            <p:cNvSpPr/>
            <p:nvPr/>
          </p:nvSpPr>
          <p:spPr>
            <a:xfrm rot="9240000">
              <a:off x="4187520" y="3987720"/>
              <a:ext cx="1711080" cy="1711440"/>
            </a:xfrm>
            <a:custGeom>
              <a:avLst/>
              <a:gdLst>
                <a:gd name="textAreaLeft" fmla="*/ 0 w 1711080"/>
                <a:gd name="textAreaRight" fmla="*/ 1711440 w 171108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2"/>
            <p:cNvSpPr/>
            <p:nvPr/>
          </p:nvSpPr>
          <p:spPr>
            <a:xfrm rot="12360000">
              <a:off x="3244320" y="3987360"/>
              <a:ext cx="1711440" cy="1711440"/>
            </a:xfrm>
            <a:custGeom>
              <a:avLst/>
              <a:gdLst>
                <a:gd name="textAreaLeft" fmla="*/ 0 w 1711440"/>
                <a:gd name="textAreaRight" fmla="*/ 1711800 w 171144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33"/>
            <p:cNvSpPr/>
            <p:nvPr/>
          </p:nvSpPr>
          <p:spPr>
            <a:xfrm rot="15420000">
              <a:off x="2655360" y="3250440"/>
              <a:ext cx="1711080" cy="1711440"/>
            </a:xfrm>
            <a:custGeom>
              <a:avLst/>
              <a:gdLst>
                <a:gd name="textAreaLeft" fmla="*/ 0 w 1711080"/>
                <a:gd name="textAreaRight" fmla="*/ 1711440 w 171108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34"/>
            <p:cNvSpPr/>
            <p:nvPr/>
          </p:nvSpPr>
          <p:spPr>
            <a:xfrm rot="18540000">
              <a:off x="2865240" y="2329920"/>
              <a:ext cx="1711440" cy="1711440"/>
            </a:xfrm>
            <a:custGeom>
              <a:avLst/>
              <a:gdLst>
                <a:gd name="textAreaLeft" fmla="*/ 0 w 1711440"/>
                <a:gd name="textAreaRight" fmla="*/ 1711800 w 171144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35"/>
            <p:cNvSpPr/>
            <p:nvPr/>
          </p:nvSpPr>
          <p:spPr>
            <a:xfrm>
              <a:off x="5019480" y="1901880"/>
              <a:ext cx="66996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36"/>
            <p:cNvSpPr/>
            <p:nvPr/>
          </p:nvSpPr>
          <p:spPr>
            <a:xfrm>
              <a:off x="2479680" y="3127320"/>
              <a:ext cx="66996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37"/>
            <p:cNvSpPr/>
            <p:nvPr/>
          </p:nvSpPr>
          <p:spPr>
            <a:xfrm>
              <a:off x="3454200" y="1903320"/>
              <a:ext cx="66996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valu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8"/>
            <p:cNvSpPr/>
            <p:nvPr/>
          </p:nvSpPr>
          <p:spPr>
            <a:xfrm>
              <a:off x="5995800" y="3125520"/>
              <a:ext cx="66996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9"/>
            <p:cNvSpPr/>
            <p:nvPr/>
          </p:nvSpPr>
          <p:spPr>
            <a:xfrm>
              <a:off x="5648400" y="4651200"/>
              <a:ext cx="66960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e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40"/>
            <p:cNvSpPr/>
            <p:nvPr/>
          </p:nvSpPr>
          <p:spPr>
            <a:xfrm>
              <a:off x="4238640" y="5330880"/>
              <a:ext cx="66996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41"/>
            <p:cNvSpPr/>
            <p:nvPr/>
          </p:nvSpPr>
          <p:spPr>
            <a:xfrm>
              <a:off x="2828880" y="4653000"/>
              <a:ext cx="66996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Diagram 5"/>
          <p:cNvGrpSpPr/>
          <p:nvPr/>
        </p:nvGrpSpPr>
        <p:grpSpPr>
          <a:xfrm>
            <a:off x="2349360" y="1937880"/>
            <a:ext cx="4445280" cy="3849840"/>
            <a:chOff x="2349360" y="1937880"/>
            <a:chExt cx="4445280" cy="3849840"/>
          </a:xfrm>
        </p:grpSpPr>
        <p:sp>
          <p:nvSpPr>
            <p:cNvPr id="100" name="_s2052"/>
            <p:cNvSpPr/>
            <p:nvPr/>
          </p:nvSpPr>
          <p:spPr>
            <a:xfrm flipV="1">
              <a:off x="3830760" y="1937520"/>
              <a:ext cx="1482480" cy="1282680"/>
            </a:xfrm>
            <a:custGeom>
              <a:avLst/>
              <a:gdLst>
                <a:gd name="textAreaLeft" fmla="*/ 531720 w 1482480"/>
                <a:gd name="textAreaRight" fmla="*/ 950760 w 1482480"/>
                <a:gd name="textAreaTop" fmla="*/ 460080 h 1282680"/>
                <a:gd name="textAreaBottom" fmla="*/ 822600 h 128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53"/>
            <p:cNvSpPr/>
            <p:nvPr/>
          </p:nvSpPr>
          <p:spPr>
            <a:xfrm flipV="1">
              <a:off x="3090960" y="3220920"/>
              <a:ext cx="2962080" cy="1284480"/>
            </a:xfrm>
            <a:custGeom>
              <a:avLst/>
              <a:gdLst>
                <a:gd name="textAreaLeft" fmla="*/ 651240 w 2962080"/>
                <a:gd name="textAreaRight" fmla="*/ 2310840 w 2962080"/>
                <a:gd name="textAreaTop" fmla="*/ 282240 h 1284480"/>
                <a:gd name="textAreaBottom" fmla="*/ 1002240 h 128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ctical Plan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54"/>
            <p:cNvSpPr/>
            <p:nvPr/>
          </p:nvSpPr>
          <p:spPr>
            <a:xfrm flipV="1">
              <a:off x="2349360" y="4504680"/>
              <a:ext cx="4445280" cy="1282680"/>
            </a:xfrm>
            <a:custGeom>
              <a:avLst/>
              <a:gdLst>
                <a:gd name="textAreaLeft" fmla="*/ 771480 w 4445280"/>
                <a:gd name="textAreaRight" fmla="*/ 3673800 w 4445280"/>
                <a:gd name="textAreaTop" fmla="*/ 222480 h 1282680"/>
                <a:gd name="textAreaBottom" fmla="*/ 1060200 h 128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erational Plan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genda;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Plan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and activities in academic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ing effective and ineffective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ary Skills for organizing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Pyram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Diagram 5"/>
          <p:cNvGrpSpPr/>
          <p:nvPr/>
        </p:nvGrpSpPr>
        <p:grpSpPr>
          <a:xfrm>
            <a:off x="2400120" y="1982880"/>
            <a:ext cx="4343400" cy="3760560"/>
            <a:chOff x="2400120" y="1982880"/>
            <a:chExt cx="4343400" cy="3760560"/>
          </a:xfrm>
        </p:grpSpPr>
        <p:sp>
          <p:nvSpPr>
            <p:cNvPr id="105" name="_s3076"/>
            <p:cNvSpPr/>
            <p:nvPr/>
          </p:nvSpPr>
          <p:spPr>
            <a:xfrm flipV="1">
              <a:off x="4029120" y="1982880"/>
              <a:ext cx="1085760" cy="939600"/>
            </a:xfrm>
            <a:custGeom>
              <a:avLst/>
              <a:gdLst>
                <a:gd name="textAreaLeft" fmla="*/ 389520 w 1085760"/>
                <a:gd name="textAreaRight" fmla="*/ 696240 w 1085760"/>
                <a:gd name="textAreaTop" fmla="*/ 336960 h 939600"/>
                <a:gd name="textAreaBottom" fmla="*/ 602640 h 9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li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3077"/>
            <p:cNvSpPr/>
            <p:nvPr/>
          </p:nvSpPr>
          <p:spPr>
            <a:xfrm flipV="1">
              <a:off x="3486240" y="2921760"/>
              <a:ext cx="2171520" cy="941400"/>
            </a:xfrm>
            <a:custGeom>
              <a:avLst/>
              <a:gdLst>
                <a:gd name="textAreaLeft" fmla="*/ 477360 w 2171520"/>
                <a:gd name="textAreaRight" fmla="*/ 1694160 w 2171520"/>
                <a:gd name="textAreaTop" fmla="*/ 207000 h 941400"/>
                <a:gd name="textAreaBottom" fmla="*/ 734400 h 94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3078"/>
            <p:cNvSpPr/>
            <p:nvPr/>
          </p:nvSpPr>
          <p:spPr>
            <a:xfrm flipV="1">
              <a:off x="2943000" y="3863160"/>
              <a:ext cx="3257640" cy="939960"/>
            </a:xfrm>
            <a:custGeom>
              <a:avLst/>
              <a:gdLst>
                <a:gd name="textAreaLeft" fmla="*/ 565560 w 3257640"/>
                <a:gd name="textAreaRight" fmla="*/ 2692080 w 3257640"/>
                <a:gd name="textAreaTop" fmla="*/ 163080 h 939960"/>
                <a:gd name="textAreaBottom" fmla="*/ 77688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gra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3079"/>
            <p:cNvSpPr/>
            <p:nvPr/>
          </p:nvSpPr>
          <p:spPr>
            <a:xfrm flipV="1">
              <a:off x="2400120" y="4803840"/>
              <a:ext cx="4343400" cy="939600"/>
            </a:xfrm>
            <a:custGeom>
              <a:avLst/>
              <a:gdLst>
                <a:gd name="textAreaLeft" fmla="*/ 653400 w 4343400"/>
                <a:gd name="textAreaRight" fmla="*/ 3690000 w 4343400"/>
                <a:gd name="textAreaTop" fmla="*/ 141120 h 939600"/>
                <a:gd name="textAreaBottom" fmla="*/ 798480 h 9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&amp; spec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8229600" cy="3024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rate le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p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onal le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edi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edi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……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Eradicate Il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3597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Arial"/>
                        </a:rPr>
                        <a:t>Strategic Decis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Arial"/>
                        </a:rPr>
                        <a:t>Tactical Assessmen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Arial"/>
                        </a:rPr>
                        <a:t>Operation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652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Conventional Primary Education as well as adult Litera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any Schools/Centre &amp; where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uch it cos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, staff, books, evaluation, supervision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of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Content Placeholder 3"/>
          <p:cNvGrpSpPr/>
          <p:nvPr/>
        </p:nvGrpSpPr>
        <p:grpSpPr>
          <a:xfrm>
            <a:off x="2067840" y="1486080"/>
            <a:ext cx="5541120" cy="4584600"/>
            <a:chOff x="2067840" y="1486080"/>
            <a:chExt cx="5541120" cy="4584600"/>
          </a:xfrm>
        </p:grpSpPr>
        <p:sp>
          <p:nvSpPr>
            <p:cNvPr id="116" name="_s4100"/>
            <p:cNvSpPr/>
            <p:nvPr/>
          </p:nvSpPr>
          <p:spPr>
            <a:xfrm flipH="1" flipV="1">
              <a:off x="3870000" y="2559960"/>
              <a:ext cx="700560" cy="90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4101"/>
            <p:cNvSpPr/>
            <p:nvPr/>
          </p:nvSpPr>
          <p:spPr>
            <a:xfrm>
              <a:off x="3097800" y="1787760"/>
              <a:ext cx="1005120" cy="83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4102"/>
            <p:cNvSpPr/>
            <p:nvPr/>
          </p:nvSpPr>
          <p:spPr>
            <a:xfrm flipH="1" flipV="1">
              <a:off x="3209400" y="3197880"/>
              <a:ext cx="1176840" cy="44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4103"/>
            <p:cNvSpPr/>
            <p:nvPr/>
          </p:nvSpPr>
          <p:spPr>
            <a:xfrm>
              <a:off x="2251800" y="2602800"/>
              <a:ext cx="1005120" cy="83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jec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mul. 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plem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4104"/>
            <p:cNvSpPr/>
            <p:nvPr/>
          </p:nvSpPr>
          <p:spPr>
            <a:xfrm flipH="1">
              <a:off x="3068640" y="3876480"/>
              <a:ext cx="1279080" cy="15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4105"/>
            <p:cNvSpPr/>
            <p:nvPr/>
          </p:nvSpPr>
          <p:spPr>
            <a:xfrm>
              <a:off x="2067840" y="3670560"/>
              <a:ext cx="1005120" cy="83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labo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4106"/>
            <p:cNvSpPr/>
            <p:nvPr/>
          </p:nvSpPr>
          <p:spPr>
            <a:xfrm flipH="1">
              <a:off x="3490200" y="4089600"/>
              <a:ext cx="974160" cy="70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4107"/>
            <p:cNvSpPr/>
            <p:nvPr/>
          </p:nvSpPr>
          <p:spPr>
            <a:xfrm>
              <a:off x="2605320" y="4650480"/>
              <a:ext cx="1005120" cy="83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m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4108"/>
            <p:cNvSpPr/>
            <p:nvPr/>
          </p:nvSpPr>
          <p:spPr>
            <a:xfrm flipH="1">
              <a:off x="4338000" y="4215960"/>
              <a:ext cx="363600" cy="103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4109"/>
            <p:cNvSpPr/>
            <p:nvPr/>
          </p:nvSpPr>
          <p:spPr>
            <a:xfrm>
              <a:off x="3692160" y="5232240"/>
              <a:ext cx="1005120" cy="83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asibilit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4110"/>
            <p:cNvSpPr/>
            <p:nvPr/>
          </p:nvSpPr>
          <p:spPr>
            <a:xfrm>
              <a:off x="4981680" y="4214160"/>
              <a:ext cx="363600" cy="10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4111"/>
            <p:cNvSpPr/>
            <p:nvPr/>
          </p:nvSpPr>
          <p:spPr>
            <a:xfrm>
              <a:off x="4983480" y="5232240"/>
              <a:ext cx="1005120" cy="83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orit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t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4112"/>
            <p:cNvSpPr/>
            <p:nvPr/>
          </p:nvSpPr>
          <p:spPr>
            <a:xfrm>
              <a:off x="5216760" y="4088160"/>
              <a:ext cx="974160" cy="70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4113"/>
            <p:cNvSpPr/>
            <p:nvPr/>
          </p:nvSpPr>
          <p:spPr>
            <a:xfrm>
              <a:off x="6068520" y="4649040"/>
              <a:ext cx="1004760" cy="83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e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4114"/>
            <p:cNvSpPr/>
            <p:nvPr/>
          </p:nvSpPr>
          <p:spPr>
            <a:xfrm>
              <a:off x="5333040" y="3875040"/>
              <a:ext cx="1274760" cy="15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4115"/>
            <p:cNvSpPr/>
            <p:nvPr/>
          </p:nvSpPr>
          <p:spPr>
            <a:xfrm>
              <a:off x="6603840" y="3668400"/>
              <a:ext cx="1005120" cy="83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i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m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4116"/>
            <p:cNvSpPr/>
            <p:nvPr/>
          </p:nvSpPr>
          <p:spPr>
            <a:xfrm flipV="1">
              <a:off x="5292000" y="3196440"/>
              <a:ext cx="1172520" cy="44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4117"/>
            <p:cNvSpPr/>
            <p:nvPr/>
          </p:nvSpPr>
          <p:spPr>
            <a:xfrm>
              <a:off x="6419880" y="2602800"/>
              <a:ext cx="1005120" cy="83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agno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4118"/>
            <p:cNvSpPr/>
            <p:nvPr/>
          </p:nvSpPr>
          <p:spPr>
            <a:xfrm flipV="1">
              <a:off x="5108040" y="2561760"/>
              <a:ext cx="696600" cy="90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4119"/>
            <p:cNvSpPr/>
            <p:nvPr/>
          </p:nvSpPr>
          <p:spPr>
            <a:xfrm>
              <a:off x="5574240" y="1789920"/>
              <a:ext cx="1004760" cy="83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l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4120"/>
            <p:cNvSpPr/>
            <p:nvPr/>
          </p:nvSpPr>
          <p:spPr>
            <a:xfrm flipV="1">
              <a:off x="4838400" y="2324520"/>
              <a:ext cx="0" cy="107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4121"/>
            <p:cNvSpPr/>
            <p:nvPr/>
          </p:nvSpPr>
          <p:spPr>
            <a:xfrm>
              <a:off x="4335840" y="1486080"/>
              <a:ext cx="1005120" cy="83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 Plan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4122"/>
            <p:cNvSpPr/>
            <p:nvPr/>
          </p:nvSpPr>
          <p:spPr>
            <a:xfrm>
              <a:off x="4335840" y="3399120"/>
              <a:ext cx="1005120" cy="83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Pre-Planning (creation of suitable organiz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machinery to participate, creation of inform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defining objectives at various lev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o we   stand at a certain period of time/Year in terms of quality and qua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statistical information about the structure of Education, policies, students, teachers, institutions, and finances etc., which provides the quantitative &amp; qualitative frame work for the development of educational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diagnosis of present situation &amp; previous perform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Diagnosis helps us to find out the gaps between the current system and the required 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criteria, relevance, effectiveness,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cy 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formulation is basically a political function. Educational objectives and general guidelines to accomplish these objectives are fra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of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on of all the required material needs to materialize th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  <a:ea typeface="MS PGothic"/>
              </a:rPr>
              <a:t>If you don’t plan, the student will plan for you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student imagination"/>
          <p:cNvPicPr/>
          <p:nvPr/>
        </p:nvPicPr>
        <p:blipFill>
          <a:blip r:embed="rId1"/>
          <a:stretch/>
        </p:blipFill>
        <p:spPr>
          <a:xfrm>
            <a:off x="2057400" y="1676520"/>
            <a:ext cx="5486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ities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priorities is the grading of required nee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s, wants and dispensabl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e-determined level which planner aims at achieving in terms of quantity as well as qua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asibility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able, plausible, realistic, economical, practicable, serviceab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eck the practicability and potential threats regarding proposed plan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before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ing all the brainstorming into a written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s and Chap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E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, Project identification and region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mposition of plan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unit of a plan for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description of a piece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execution, management proc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annual budget, annual plan personnel trai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incentive, accoun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systematic feedba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revision, target resetting, changes in strateg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formative, summative, qualitative, quantitat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evaluation of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dentify development goals for a backward &amp; poor rural community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6324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3"/>
          <p:cNvSpPr/>
          <p:nvPr/>
        </p:nvSpPr>
        <p:spPr>
          <a:xfrm>
            <a:off x="3595680" y="5791320"/>
            <a:ext cx="365256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Resources Not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Plan Academics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veying 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ing Goals and 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44600" y="1459080"/>
            <a:ext cx="808992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19320" y="1601640"/>
            <a:ext cx="6476760" cy="45230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basis (SWOT Analy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1600200"/>
          <a:ext cx="8229600" cy="18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Arial"/>
                        </a:rPr>
                        <a:t>Strategic Decis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Arial"/>
                        </a:rPr>
                        <a:t>Tactical Assessmen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Arial"/>
                        </a:rPr>
                        <a:t>Operation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ademic Calend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Table Activity Pl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 out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 out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1143000" y="2459160"/>
            <a:ext cx="6629400" cy="33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  <a:ea typeface="MS PGothic"/>
              </a:rPr>
              <a:t>Prep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lin Sans FB Demi"/>
                <a:ea typeface="MS PGothic"/>
              </a:rPr>
              <a:t>An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  <a:ea typeface="MS PGothic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  <a:ea typeface="MS PGothic"/>
              </a:rPr>
              <a:t>Academic Calendar for Your Instit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your goals for academic excellence in School?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(keeping in view the following conside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atisfaction of fel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Utilization of untapped/hidde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ost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no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void Potential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ime s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Management frien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ademic Planning…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444680" y="2009880"/>
            <a:ext cx="625464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pperplate Gothic Bold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163520" y="2786040"/>
            <a:ext cx="6810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e an ‘ADVERTISEMENT’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‘AN IDEAL MANAGER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Content Placeholder 4" descr=""/>
          <p:cNvPicPr/>
          <p:nvPr/>
        </p:nvPicPr>
        <p:blipFill>
          <a:blip r:embed="rId1"/>
          <a:stretch/>
        </p:blipFill>
        <p:spPr>
          <a:xfrm>
            <a:off x="974880" y="2030400"/>
            <a:ext cx="3000240" cy="3668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4648320" y="2071800"/>
            <a:ext cx="403848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ording to Luther Gaullick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DCoR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Content Placeholder 3"/>
          <p:cNvGrpSpPr/>
          <p:nvPr/>
        </p:nvGrpSpPr>
        <p:grpSpPr>
          <a:xfrm>
            <a:off x="457200" y="1600200"/>
            <a:ext cx="8229240" cy="4524480"/>
            <a:chOff x="457200" y="1600200"/>
            <a:chExt cx="8229240" cy="4524480"/>
          </a:xfrm>
        </p:grpSpPr>
        <p:cxnSp>
          <p:nvCxnSpPr>
            <p:cNvPr id="185" name="_s5124"/>
            <p:cNvCxnSpPr>
              <a:stCxn id="186" idx="0"/>
              <a:endCxn id="187" idx="2"/>
            </p:cNvCxnSpPr>
            <p:nvPr/>
          </p:nvCxnSpPr>
          <p:spPr>
            <a:xfrm flipV="1" rot="16200000">
              <a:off x="5875560" y="2105640"/>
              <a:ext cx="905400" cy="351216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5125"/>
            <p:cNvCxnSpPr>
              <a:stCxn id="189" idx="0"/>
              <a:endCxn id="187" idx="2"/>
            </p:cNvCxnSpPr>
            <p:nvPr/>
          </p:nvCxnSpPr>
          <p:spPr>
            <a:xfrm flipV="1" rot="16200000">
              <a:off x="5172840" y="2808360"/>
              <a:ext cx="905400" cy="210672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5126"/>
            <p:cNvCxnSpPr>
              <a:stCxn id="191" idx="0"/>
              <a:endCxn id="187" idx="2"/>
            </p:cNvCxnSpPr>
            <p:nvPr/>
          </p:nvCxnSpPr>
          <p:spPr>
            <a:xfrm flipV="1" rot="16200000">
              <a:off x="4471560" y="3509640"/>
              <a:ext cx="905400" cy="70416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2" name="_s5127"/>
            <p:cNvCxnSpPr>
              <a:stCxn id="193" idx="0"/>
              <a:endCxn id="187" idx="2"/>
            </p:cNvCxnSpPr>
            <p:nvPr/>
          </p:nvCxnSpPr>
          <p:spPr>
            <a:xfrm flipH="1" flipV="1" rot="5400000">
              <a:off x="3769200" y="3511080"/>
              <a:ext cx="905400" cy="70200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5128"/>
            <p:cNvCxnSpPr>
              <a:stCxn id="195" idx="0"/>
              <a:endCxn id="187" idx="2"/>
            </p:cNvCxnSpPr>
            <p:nvPr/>
          </p:nvCxnSpPr>
          <p:spPr>
            <a:xfrm flipH="1" flipV="1" rot="5400000">
              <a:off x="3066840" y="2808360"/>
              <a:ext cx="905400" cy="210744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6" name="_s5129"/>
            <p:cNvCxnSpPr>
              <a:stCxn id="197" idx="0"/>
              <a:endCxn id="187" idx="2"/>
            </p:cNvCxnSpPr>
            <p:nvPr/>
          </p:nvCxnSpPr>
          <p:spPr>
            <a:xfrm flipH="1" flipV="1" rot="5400000">
              <a:off x="2363760" y="2105640"/>
              <a:ext cx="905400" cy="351252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7" name="_s5130"/>
            <p:cNvSpPr/>
            <p:nvPr/>
          </p:nvSpPr>
          <p:spPr>
            <a:xfrm>
              <a:off x="3968640" y="1600200"/>
              <a:ext cx="1204200" cy="180972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809720"/>
                <a:gd name="textAreaBottom" fmla="*/ 1751040 h 1809720"/>
              </a:gdLst>
              <a:ahLst/>
              <a:rect l="textAreaLeft" t="textAreaTop" r="textAreaRight" b="textAreaBottom"/>
              <a:pathLst>
                <a:path w="21600" h="32458">
                  <a:moveTo>
                    <a:pt x="3600" y="0"/>
                  </a:moveTo>
                  <a:arcTo wR="3600" hR="3600" stAng="16200000" swAng="-5400000"/>
                  <a:lnTo>
                    <a:pt x="0" y="28858"/>
                  </a:lnTo>
                  <a:arcTo wR="3600" hR="3600" stAng="10800000" swAng="-5400000"/>
                  <a:lnTo>
                    <a:pt x="18000" y="324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dg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5131"/>
            <p:cNvSpPr/>
            <p:nvPr/>
          </p:nvSpPr>
          <p:spPr>
            <a:xfrm>
              <a:off x="457200" y="4314960"/>
              <a:ext cx="1204200" cy="180972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809720"/>
                <a:gd name="textAreaBottom" fmla="*/ 1751040 h 1809720"/>
              </a:gdLst>
              <a:ahLst/>
              <a:rect l="textAreaLeft" t="textAreaTop" r="textAreaRight" b="textAreaBottom"/>
              <a:pathLst>
                <a:path w="21600" h="32458">
                  <a:moveTo>
                    <a:pt x="3600" y="0"/>
                  </a:moveTo>
                  <a:arcTo wR="3600" hR="3600" stAng="16200000" swAng="-5400000"/>
                  <a:lnTo>
                    <a:pt x="0" y="28858"/>
                  </a:lnTo>
                  <a:arcTo wR="3600" hR="3600" stAng="10800000" swAng="-5400000"/>
                  <a:lnTo>
                    <a:pt x="18000" y="324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lan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5132"/>
            <p:cNvSpPr/>
            <p:nvPr/>
          </p:nvSpPr>
          <p:spPr>
            <a:xfrm>
              <a:off x="1862280" y="4314960"/>
              <a:ext cx="1204200" cy="180972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809720"/>
                <a:gd name="textAreaBottom" fmla="*/ 1751040 h 1809720"/>
              </a:gdLst>
              <a:ahLst/>
              <a:rect l="textAreaLeft" t="textAreaTop" r="textAreaRight" b="textAreaBottom"/>
              <a:pathLst>
                <a:path w="21600" h="32458">
                  <a:moveTo>
                    <a:pt x="3600" y="0"/>
                  </a:moveTo>
                  <a:arcTo wR="3600" hR="3600" stAng="16200000" swAng="-5400000"/>
                  <a:lnTo>
                    <a:pt x="0" y="28858"/>
                  </a:lnTo>
                  <a:arcTo wR="3600" hR="3600" stAng="10800000" swAng="-5400000"/>
                  <a:lnTo>
                    <a:pt x="18000" y="324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ganiz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5133"/>
            <p:cNvSpPr/>
            <p:nvPr/>
          </p:nvSpPr>
          <p:spPr>
            <a:xfrm>
              <a:off x="3267720" y="4314960"/>
              <a:ext cx="1204200" cy="180972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809720"/>
                <a:gd name="textAreaBottom" fmla="*/ 1751040 h 1809720"/>
              </a:gdLst>
              <a:ahLst/>
              <a:rect l="textAreaLeft" t="textAreaTop" r="textAreaRight" b="textAreaBottom"/>
              <a:pathLst>
                <a:path w="21600" h="32458">
                  <a:moveTo>
                    <a:pt x="3600" y="0"/>
                  </a:moveTo>
                  <a:arcTo wR="3600" hR="3600" stAng="16200000" swAng="-5400000"/>
                  <a:lnTo>
                    <a:pt x="0" y="28858"/>
                  </a:lnTo>
                  <a:arcTo wR="3600" hR="3600" stAng="10800000" swAng="-5400000"/>
                  <a:lnTo>
                    <a:pt x="18000" y="324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aff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5134"/>
            <p:cNvSpPr/>
            <p:nvPr/>
          </p:nvSpPr>
          <p:spPr>
            <a:xfrm>
              <a:off x="4672800" y="4314960"/>
              <a:ext cx="1204200" cy="180972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809720"/>
                <a:gd name="textAreaBottom" fmla="*/ 1751040 h 1809720"/>
              </a:gdLst>
              <a:ahLst/>
              <a:rect l="textAreaLeft" t="textAreaTop" r="textAreaRight" b="textAreaBottom"/>
              <a:pathLst>
                <a:path w="21600" h="32458">
                  <a:moveTo>
                    <a:pt x="3600" y="0"/>
                  </a:moveTo>
                  <a:arcTo wR="3600" hR="3600" stAng="16200000" swAng="-5400000"/>
                  <a:lnTo>
                    <a:pt x="0" y="28858"/>
                  </a:lnTo>
                  <a:arcTo wR="3600" hR="3600" stAng="10800000" swAng="-5400000"/>
                  <a:lnTo>
                    <a:pt x="18000" y="324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rec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5135"/>
            <p:cNvSpPr/>
            <p:nvPr/>
          </p:nvSpPr>
          <p:spPr>
            <a:xfrm>
              <a:off x="6078240" y="4314960"/>
              <a:ext cx="1203120" cy="180972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809720"/>
                <a:gd name="textAreaBottom" fmla="*/ 1751040 h 1809720"/>
              </a:gdLst>
              <a:ahLst/>
              <a:rect l="textAreaLeft" t="textAreaTop" r="textAreaRight" b="textAreaBottom"/>
              <a:pathLst>
                <a:path w="21600" h="32487">
                  <a:moveTo>
                    <a:pt x="3600" y="0"/>
                  </a:moveTo>
                  <a:arcTo wR="3600" hR="3600" stAng="16200000" swAng="-5400000"/>
                  <a:lnTo>
                    <a:pt x="0" y="28887"/>
                  </a:lnTo>
                  <a:arcTo wR="3600" hR="3600" stAng="10800000" swAng="-5400000"/>
                  <a:lnTo>
                    <a:pt x="18000" y="324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ord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5136"/>
            <p:cNvSpPr/>
            <p:nvPr/>
          </p:nvSpPr>
          <p:spPr>
            <a:xfrm>
              <a:off x="7482240" y="4314960"/>
              <a:ext cx="1204200" cy="180972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809720"/>
                <a:gd name="textAreaBottom" fmla="*/ 1751040 h 1809720"/>
              </a:gdLst>
              <a:ahLst/>
              <a:rect l="textAreaLeft" t="textAreaTop" r="textAreaRight" b="textAreaBottom"/>
              <a:pathLst>
                <a:path w="21600" h="32458">
                  <a:moveTo>
                    <a:pt x="3600" y="0"/>
                  </a:moveTo>
                  <a:arcTo wR="3600" hR="3600" stAng="16200000" swAng="-5400000"/>
                  <a:lnTo>
                    <a:pt x="0" y="28858"/>
                  </a:lnTo>
                  <a:arcTo wR="3600" hR="3600" stAng="10800000" swAng="-5400000"/>
                  <a:lnTo>
                    <a:pt x="18000" y="324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por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3030"/>
                </a:solidFill>
                <a:latin typeface="Impact"/>
              </a:rPr>
              <a:t>Activity: </a:t>
            </a:r>
            <a:br>
              <a:rPr sz="3600"/>
            </a:br>
            <a:r>
              <a:rPr b="0" lang="en-US" sz="3600" spc="-1" strike="noStrike">
                <a:solidFill>
                  <a:srgbClr val="303030"/>
                </a:solidFill>
                <a:latin typeface="Impact"/>
              </a:rPr>
              <a:t>How Do You Workout Science Exhibition Project In Your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846440" y="2039760"/>
            <a:ext cx="5451120" cy="36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and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3c6"/>
                </a:solidFill>
                <a:latin typeface="바탕"/>
                <a:ea typeface="바탕"/>
              </a:rPr>
              <a:t>What do you mean by Educational develop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THANKS A L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ing of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ke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ught out arrangements for doing anyth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 scheme for making, doing or arranging something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5438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ce1c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is a process of identifying a course of action systematically in an organized manner to achieve objectives by utilizing the available resources skillfully in a cost effective 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Purpo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tch the limited resources with man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unnecessary expendi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best course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WP. Guru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ndamental principle in planning is that one should consciously and diligently make a choice among the foreseeable alternative futures and guide today’s action towards the achievement of the selected future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22:15:08Z</dcterms:created>
  <dc:creator>Tahir</dc:creator>
  <dc:description/>
  <dc:language>en-US</dc:language>
  <cp:lastModifiedBy>SaaD</cp:lastModifiedBy>
  <dcterms:modified xsi:type="dcterms:W3CDTF">2019-11-06T08:28:42Z</dcterms:modified>
  <cp:revision>52</cp:revision>
  <dc:subject/>
  <dc:title>Planning “A scheme for making, doing or arranging something”</dc:title>
</cp:coreProperties>
</file>